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F02-417B-458A-BDEB-AF10FD4E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EBF-F0FC-4C2B-8365-D1793E8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D6F-4936-4AC3-A618-5F257FA8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46B-522F-449F-A9CE-DCF17872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1FA-2D93-40A6-A41D-751354BF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395-E3A1-4567-9F96-5A853510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66F-AAAC-46C4-A457-ABC90AF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C66-3082-4DE3-88FB-E7FEAA2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0BB-766B-40C5-9A54-E341704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A80-8591-4E82-BCF7-A6D94076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757-4D0E-4D5A-924D-DCD2ABC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678-57A7-42C5-B2BC-A479AD9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FFA-B8FA-47C9-8441-1A3FF30A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4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7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48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23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54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9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60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5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37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374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377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 Remember to address me politely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384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386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389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 Remember to address me politely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396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398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401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408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410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413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66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68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71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78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80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83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90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92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95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102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104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107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114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Cesar and I am from the U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120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Verdana"/>
                </a:rPr>
                <a:t>¡Hola! Yo me llamo Paula y soy de El Salvad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3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Paula and I am from 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¿De dónde eres?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126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Beatriz and I am from the Dominican Re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132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iguel and I am from the Sp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rcRect l="22430" t="16405" r="47044" b="21876"/>
          <a:stretch/>
        </p:blipFill>
        <p:spPr>
          <a:xfrm>
            <a:off x="468360" y="228600"/>
            <a:ext cx="12762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65424" t="16405" r="9036" b="21876"/>
          <a:stretch/>
        </p:blipFill>
        <p:spPr>
          <a:xfrm>
            <a:off x="2894040" y="228600"/>
            <a:ext cx="106848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4270" t="16405" r="34579" b="21093"/>
          <a:stretch/>
        </p:blipFill>
        <p:spPr>
          <a:xfrm>
            <a:off x="5038560" y="228600"/>
            <a:ext cx="12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rcRect l="33022" t="39064" r="32710" b="7811"/>
          <a:stretch/>
        </p:blipFill>
        <p:spPr>
          <a:xfrm>
            <a:off x="7315200" y="304920"/>
            <a:ext cx="1479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14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144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154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156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166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168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171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178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180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183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190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Marina and I am from 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196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3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Robito and I am from Hola Ami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202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Eduardo and I am from Pe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208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atthew and I am from Ukra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rcRect l="14469" t="21093" r="54410" b="8594"/>
          <a:stretch/>
        </p:blipFill>
        <p:spPr>
          <a:xfrm>
            <a:off x="534960" y="228600"/>
            <a:ext cx="1141560" cy="205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52509" t="28901" r="12912" b="8594"/>
          <a:stretch/>
        </p:blipFill>
        <p:spPr>
          <a:xfrm>
            <a:off x="2687760" y="152280"/>
            <a:ext cx="1427040" cy="2057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rcRect l="37355" t="19517" r="21400" b="9251"/>
          <a:stretch/>
        </p:blipFill>
        <p:spPr>
          <a:xfrm>
            <a:off x="5029200" y="304920"/>
            <a:ext cx="138276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61683" t="28908" r="9347" b="15626"/>
          <a:stretch/>
        </p:blipFill>
        <p:spPr>
          <a:xfrm>
            <a:off x="7238880" y="152280"/>
            <a:ext cx="134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218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220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223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230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232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235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242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247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254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256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266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7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Cuauhtémoc and I am from Me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272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Verdana"/>
                </a:rPr>
                <a:t>¡Hola! Yo me llamo Jenny y soy de 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23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Jenny and I am from Ca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278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Ernesto and I am from 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284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Teresa and I am from 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rcRect l="28040" t="28126" r="48289" b="14065"/>
          <a:stretch/>
        </p:blipFill>
        <p:spPr>
          <a:xfrm>
            <a:off x="581040" y="152280"/>
            <a:ext cx="1095480" cy="2133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rcRect l="64179" t="28126" r="8724" b="14065"/>
          <a:stretch/>
        </p:blipFill>
        <p:spPr>
          <a:xfrm>
            <a:off x="2828880" y="152280"/>
            <a:ext cx="1209600" cy="2057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rcRect l="64800" t="27343" r="8412" b="14065"/>
          <a:stretch/>
        </p:blipFill>
        <p:spPr>
          <a:xfrm>
            <a:off x="5111640" y="152280"/>
            <a:ext cx="1136880" cy="1981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rcRect l="27416" t="27343" r="47665" b="14065"/>
          <a:stretch/>
        </p:blipFill>
        <p:spPr>
          <a:xfrm>
            <a:off x="7467480" y="152280"/>
            <a:ext cx="1096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294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296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299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306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308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318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320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323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330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332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335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34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7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Lucía and I am from Sp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348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Verdana"/>
                </a:rPr>
                <a:t>¡Hola! Yo me llamo Marc, soy el hermano de Jenny  y soy de 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23960" y="4110120"/>
              <a:ext cx="1828800" cy="82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arc and I am Jenny’s brother. I am from Ca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354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r. Marquez and I am from 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s Ud.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360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I am Teresa’s grandma and I am from Guatemala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s Ud.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" descr=""/>
          <p:cNvPicPr/>
          <p:nvPr/>
        </p:nvPicPr>
        <p:blipFill>
          <a:blip r:embed="rId1"/>
          <a:srcRect l="28040" t="28908" r="44551" b="16405"/>
          <a:stretch/>
        </p:blipFill>
        <p:spPr>
          <a:xfrm>
            <a:off x="476280" y="228600"/>
            <a:ext cx="1246320" cy="1981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rcRect l="33178" t="26564" r="30685" b="21876"/>
          <a:stretch/>
        </p:blipFill>
        <p:spPr>
          <a:xfrm>
            <a:off x="2590920" y="380880"/>
            <a:ext cx="15397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029200" y="228600"/>
            <a:ext cx="1523880" cy="1981080"/>
            <a:chOff x="5029200" y="228600"/>
            <a:chExt cx="1523880" cy="1981080"/>
          </a:xfrm>
        </p:grpSpPr>
        <p:pic>
          <p:nvPicPr>
            <p:cNvPr id="368" name="" descr=""/>
            <p:cNvPicPr/>
            <p:nvPr/>
          </p:nvPicPr>
          <p:blipFill>
            <a:blip r:embed="rId3"/>
            <a:srcRect l="13085" t="31253" r="60126" b="20315"/>
            <a:stretch/>
          </p:blipFill>
          <p:spPr>
            <a:xfrm>
              <a:off x="5029200" y="228600"/>
              <a:ext cx="13748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248520" y="533520"/>
              <a:ext cx="304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4"/>
          <a:srcRect l="54363" t="25003" r="31309" b="22659"/>
          <a:stretch/>
        </p:blipFill>
        <p:spPr>
          <a:xfrm>
            <a:off x="7620120" y="228600"/>
            <a:ext cx="706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1:31:37Z</dcterms:created>
  <dc:creator>Valeria.Palladino</dc:creator>
  <dc:description/>
  <dc:language>en-US</dc:language>
  <cp:lastModifiedBy>Home</cp:lastModifiedBy>
  <dcterms:modified xsi:type="dcterms:W3CDTF">2010-02-06T18:44:07Z</dcterms:modified>
  <cp:revision>14</cp:revision>
  <dc:subject/>
  <dc:title>Slide 1</dc:title>
</cp:coreProperties>
</file>